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3839-8951-43EE-8063-12E4FCE2C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637B-9F57-4E29-A87E-2861B6A34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B2D0-D95F-4912-9C80-D18630CDF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FE77-6AF0-4636-9A50-C627AE7E4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E82A-C6AD-408D-88D7-C6C50913E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F3F7-AD83-4036-AD64-E9A496382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CC69-D16A-48CC-B4F5-54A114683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90D8-251B-4B6E-AD53-AA34EC5C4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-76320"/>
            <a:ext cx="6705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9575-1DF6-48D0-8255-C5412E251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2688-267F-490F-886B-6A1ECE4A5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EB27-D4B1-4C31-AFBB-F77F634CA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C195-596D-4A6D-872B-8B94500CE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0"/>
            <a:ext cx="67057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2438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324480"/>
            <a:ext cx="67057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2438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Md BT"/>
              </a:rPr>
              <a:t>US DOE Joint Genome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438280" cy="5257800"/>
          </a:xfrm>
          <a:prstGeom prst="rect">
            <a:avLst/>
          </a:prstGeom>
          <a:solidFill>
            <a:srgbClr val="c9c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840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A3D9-7E0F-426E-8E9A-225624ABC23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JGI_logo_web1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code.org/" TargetMode="External"/><Relationship Id="rId2" Type="http://schemas.openxmlformats.org/officeDocument/2006/relationships/hyperlink" Target="http://www.dcode.org/" TargetMode="External"/><Relationship Id="rId3" Type="http://schemas.openxmlformats.org/officeDocument/2006/relationships/hyperlink" Target="http://www.dcode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85C6-0C06-4693-B744-EFF5C37384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499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48720" cy="108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419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ws manual curation of problematic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w DNA sequence, splice sites and all 6 frames of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errors propagated by automated pipeline or error in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ck Start, Stop and 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2EE3-364E-4FC0-B25C-AF7344E4BA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or 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ken mouse cDNA suggests that the human models in this region belong to a single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6705720" cy="462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se mRNA (tblas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5BA3-AE9C-48AD-B006-AF15FEAC76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dcode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95280" y="1182600"/>
            <a:ext cx="7696440" cy="38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olutiona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rvation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, mouse, rat, chicken, frog, fugu, tetraodon, zebrafish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gen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5696-AC32-48A5-AF8F-E28D562752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CTG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11430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times CTG is used as the start instead of A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K10 has 2 isoforms in Ref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xed ORF most closely matches RefS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702324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5346720"/>
            <a:ext cx="560088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523520" y="49528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52880"/>
            <a:ext cx="3505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F631-3024-410F-96BF-C05765076C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ameshift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92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frame shift deletion in the genomic sequence results in poor matches to known prote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ch the known protein exac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how the actual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ends on support for each sce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814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BEC9-F1D6-45E6-9180-682EF74993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verlapping divergent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920" y="3809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ly partially overlapping transcripts have very different CDS but share common ex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is ex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r19 genes are densely packed on both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371600"/>
            <a:ext cx="65376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3B27-4F35-4689-89B3-5DABA77794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sp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148896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stinguishing incompletely processed mRNAs from splice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Retained intron interupts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fferences with RefSeq, possibly due to variation in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0" r="0" b="3843"/>
          <a:stretch/>
        </p:blipFill>
        <p:spPr>
          <a:xfrm>
            <a:off x="1244520" y="3200400"/>
            <a:ext cx="7365960" cy="27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779B-C9A6-4EAC-A18B-C9DA28068B7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bled gene that has an insult- stop or frameshift that interrupts or changes the ORF from the parent ge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morphic sites or transcripts indicate that locus activity may vary between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retro transposition of RNA into genomic DN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ngle exon, polyA, lacks promotor/CpG, degraded con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n-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duplication, subsequently disabled, possible to find parent reg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rally multi exon, promotor/CpG 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7FDA-229E-46E9-B90F-ED70548F76B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cessed 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077840"/>
            <a:ext cx="342900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380988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93824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D2B1-0E73-4D87-8803-679D871491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GI Human Chromosome An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3,100-4,4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371600"/>
            <a:ext cx="6629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2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6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1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9-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5 - complete. Paper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6-completed First Pass, should be done in the next month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15B1-21E2-422E-9122-E806D58420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9528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y: seek best automated models using a hierarchy of evidence.  Manually review high quality evidence (human mRNAs) for which no faithful models can be crea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fast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45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4436-E334-4F3A-8BD9-BC68BD7F4E3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ot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rea A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Low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oel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urie Gord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y Tran-Gyamf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ry X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chael Althe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an Challacom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hy Cle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ina Th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remy Schmutz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e Man Ch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123920"/>
            <a:ext cx="2895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ffe Helst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ayne Hua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Goodste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gor Grigoriev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 Ra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an Caenap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af Sala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aac H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ila Horn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ette Gre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ictor Solovye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van Ovcharen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livier Cour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amvir Deh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na Dubcha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sa Stub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Dan Rokh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770D-DDC2-4004-8590-DD4F4FDEDF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y gene families have known gene structures but lack extensive mRNA/EST evidence in hu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factory receptors (approximately 40 genes, as many as 150 pseudogenes) -- single exon, seven transmembrane recep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AB-containing Zn fingers -- single KRAB domain near amino terminal, followed by typically one exon with multiple zinc fin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several other fami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custom models using expected gene structure using automated metho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tomatically identify pseudogenes, which are common in tandem gene famil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ch tandem families are hard to model ab initio, easy to run gene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E983-88B2-49BA-9BA7-BBBD837F3AA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icult 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NAi non-coding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ngle exon ge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ncodes 136 aa ORF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us supported by multiple mRNA and EST evid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tisense to TRAP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2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 similarities to known proteins.</a:t>
            </a: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10800000">
            <a:off x="838080" y="4343040"/>
            <a:ext cx="77724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6A98-B466-4680-9633-BCE4F924F6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A600-0D24-4537-BA43-DE4E36D873AF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63600" y="1981080"/>
          <a:ext cx="48168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3600" y="1981080"/>
                    <a:ext cx="48168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666880" y="44956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un multiple non-dependent step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ken into commands of vary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100000s-1,000,000 cmds/jobs issued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56FB-50F7-4A0F-A2FF-18A98F042F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3160" y="1192320"/>
          <a:ext cx="79930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2320"/>
                    <a:ext cx="79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02EF-6338-4E21-92F5-CFFF08D47B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12193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p all human mRNAs in Genbank with BLAT against sequence scaffol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empt to turn these mRNAs into faithful gen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pect coding sequence declared in Genbank, or use  longest OR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w canonical spl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T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9.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C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…A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0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ag for review evidence for any single base indels (helps correct finishing err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stx alignments of known protein Dbs, seed GeneWis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 inito model predictions using FgenesH++ and Gen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8834-5F74-4C51-8CD9-57105C373F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datasets &amp;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&amp; Human cD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cDNA set is large, and more Rat data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&amp; Rat IP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model using blastx alignments to seed GeneWi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tend with partial human mRNAs (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tebrate mRNA is also a useful dataset for validation/confirmation but not essential (Primate data until recently has not been available in useful quantit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rst EF: First Exon Finder (M Zhang) vs CpG Is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ary conservation (Vista, dcode, in-house too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22FD-CE0D-4B07-A2A4-89B4B72307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06600"/>
            <a:ext cx="8839080" cy="535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notation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2069-246A-4AFF-84A7-E76CB04596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ctional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omputed alignments and domain finders allow easy viewing of predicted peptide’s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1148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s for assigning putative functions based on homology,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97528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3ABD-BC59-4446-9F47-EEB83C5051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24280" y="1206360"/>
            <a:ext cx="3810240" cy="32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809880" cy="195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4394160"/>
            <a:ext cx="381024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4D85-D895-4BC6-B8F0-45E3C426C1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7:21:30Z</dcterms:created>
  <dc:creator>DOE JGI</dc:creator>
  <dc:description/>
  <cp:keywords>Presentation Generic</cp:keywords>
  <dc:language>en-US</dc:language>
  <cp:lastModifiedBy>DOE JGI</cp:lastModifiedBy>
  <cp:lastPrinted>2000-11-14T22:10:33Z</cp:lastPrinted>
  <dcterms:modified xsi:type="dcterms:W3CDTF">2004-04-26T19:07:38Z</dcterms:modified>
  <cp:revision>20</cp:revision>
  <dc:subject>Berkeley Lab Generic Presentation</dc:subject>
  <dc:title>PowerPoint Presentation</dc:title>
</cp:coreProperties>
</file>